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B092-0F82-43D0-BAEF-4B71A2014AC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B03-BF9E-403B-85EC-A5C82971A0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6D4-2D04-452A-BF0F-7F017B2964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106D-92CC-492F-9937-4792C01472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103C-1D33-476C-917C-E370E2E900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7095-8EF9-40C8-A1FB-DC196A003A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0300-4A7B-4DA4-ABFD-B5037E2683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A202-F1AA-4D0D-BE6B-3C0EBFD7A8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5BA4-D1D6-4B25-BD98-6B4093D8D3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1D19-46F2-43B9-A4BD-C87FDD15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9C946-0D0F-4A84-A850-20BE8A6F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4E871-F104-4A71-B798-D8756A4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F9FA-6056-4A44-9920-D084DDE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A460-EDE2-4338-BF08-AF90FC4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FCF3-893F-4FF5-9DD5-9970F37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60EF2-8934-40C1-B018-C2E03C38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7766D-66DE-4A27-8518-212DCB44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13E57-6741-41F3-B934-E42BDF5E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0B7E-C683-4BC2-A0FC-5E128CD7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FD154-B61E-4BE7-B7C7-D77603F1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648AD-E2EF-4226-8B34-5D1CBAC1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39A33-51EC-46E9-A89B-E3F43AC7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D4E2A-8308-4D6B-989F-98B14F80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421CF-6798-4B09-A864-397F66E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327EA-AD8D-4265-A149-4516BA3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9383D-697E-4810-9CCB-F0F471D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5ACE-614A-47C6-933C-AD70685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2A25-AF05-4491-B085-BDB56B02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DE61A-1DBF-4D0E-9B34-4FA34C31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C78AF-08B3-4C4D-A8F6-86CD8F99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7A6F3-8EA0-42FF-985D-FE3B8FFE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AEA7A-DE7F-4A36-8D80-5E5870F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8AF72-6588-4AC7-B5FC-19A37A67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17657-EF21-45E8-851B-A9D6295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3988C-2C92-4F2F-9333-2337FE56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4CBF7-F911-4FC5-B16C-A527E0FF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2B698-5F5B-4E40-877C-3EBA86D5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A471A-E5C4-44C1-931E-BB8C56B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56B7F-57CD-4513-8C7B-9222DBF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32F-BC0E-40A0-AB6E-330C4E6C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D1140-CA63-41B0-888B-BD62FE8B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091FD-425A-498A-A8B1-E90FC7E4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F4A6F-DB32-4726-89D7-03424B39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CF17B-AA9C-4057-B8A4-4A1351F5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C103-78D5-4B40-98DD-C3511CBF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52863-CBB2-4815-9F6D-B833C3D9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64873-78D2-4392-B68E-80BB048F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FBD6E-60EF-41B1-A955-1D6D64B1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2113C-9833-4A21-A1FD-28FC49AA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B90CE-D474-44D9-811B-874982F9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DE1-F631-472B-86F6-465AA437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0C091-369F-473F-909D-420C296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9CAEE-A309-4380-9639-12AE5B9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BD287-8977-4C6A-B7FD-E2C48D4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8BF54-319C-41DD-9B1E-01DA21B9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A34B5-1170-45ED-AF1D-C37E55A4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5FA7C-EACA-41E7-8B3C-31014946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26088-8C8D-41FC-BE2C-C7D6D7F1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BCD10-AB94-43F7-84F1-5B03D2DC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43E21-9B90-4A75-9BB5-ED06030F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442BF-B523-4959-A854-8045EC4B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A27-7696-42F5-81FC-C1C95516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F4985-38F2-42B7-9CED-DE9D0E4B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6AF61-1F87-4BE2-845B-C7156B3D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CB0A7-E2F0-4A28-B235-CD792B0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7581-8C35-4276-98CF-AF0CFD2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89A10-B74B-411C-B04B-B673543B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69F6C-C55A-4239-9EC6-05251AD0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FC5EE-7B6B-4622-94D5-177EB95D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65D08-8801-41DE-AF20-03D6A96A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FFEF3-0865-4AC9-BFE9-A9EB209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0E2F7-C594-43A2-ABAB-02FFCB70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611-96F2-4DF7-9D2E-22AA4897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8FE45-2B4D-436F-8990-EDE47A6D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E6481-6F76-4C81-8F3F-83735587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267B5-5273-41BB-9801-ADBB34D6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A62EB-9028-4B89-A3A4-DC02D76D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C34EE-5927-4234-9267-CA09D328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9AC4B-8424-436E-B846-A8829D33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3A5E9-BEE7-4CE0-9DF0-BAC97E59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7B079-89B0-4984-9F66-018970EF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6CBB0-64F6-4F85-91C5-9C1A212F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6BEC5-D651-45D9-AF19-C0F9D579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79A-5DCE-4735-910E-DC32EA3F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76BDC-DC62-4CDB-9CED-E248D44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F35D4-0B85-4101-A083-E04765D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7815B-671A-4167-8D83-AA1DF5B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F2B23-87D5-4ED2-8413-C6F91F4C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B71AF-2C05-4094-BAEC-31552207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5E2F3-E9B4-41C7-B4A9-31E66715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F33B8-E697-43A7-82DC-B58F07D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9483D-A2A6-47D3-8AD6-4137D620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939F1-5DC8-43AE-A20B-C8325D8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07015-BDDA-432C-B2DF-2039B785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45C-3927-4195-A5E4-25D4E6C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AD69B-CA33-48BD-8DDE-938C8B45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85949-760C-461C-B56D-65971699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9FB8F-2C0D-47DB-AD96-B38CD4E8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C165A-81AE-40E6-B64D-474D00C8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DCC90-F642-4FBA-A62B-47B48C0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984D4-330F-41FB-B395-91DCC1E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91592-B96D-4413-BCA0-F3EB0E0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B60EC-1F23-43A2-A34F-C107439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93E76-275F-496C-9118-C683292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6696F-07A0-4887-853F-211789D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9D8-FBA5-422F-AF9B-BA216A8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37B80-20C0-49A1-95E2-8AEC0844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97769-AF80-4946-94EC-39EBD877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EFE6E-36CB-4689-AE69-0D6E2DB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3327A-C543-43B6-A377-8255D12F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7D960-AB89-4906-8BCB-77E30E80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C4219-87E0-4D4A-AD15-BDD9894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31F7F-F687-41C1-825E-767082D0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1B654-F5EF-4453-8CD2-DBFB9327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C98A7-7A69-434A-AEC0-4AABECEF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800B9-9EF5-492D-9F88-750EC30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B29-FFFA-4739-88FB-B0464370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1AEBD-6A0F-4BA8-A17F-01D675E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304F7-3394-4CDF-B947-482E70B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DDCA6-5D37-4261-AEEF-BBC2A0C9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28F2A-53A8-4B1C-BCF5-24B69299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C0871-AFB5-4627-BDE7-A7D6B7A8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33D83-4524-4EA5-A1CA-202A2BD6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DD840-2026-42C1-8409-41CF4755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A90CB-9B9E-4DBC-AB40-8B92619C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A2270-71B8-41B6-991D-E8CB03FE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4292E-2CF7-4F06-87A6-B75D29A1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C2C-F9F1-49CD-8543-E3CCC2F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48194-FB4D-4C31-B270-761F029F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8FF28-0F29-4E06-BDBE-014D28BC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41A82-6D54-441E-B954-07844514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93CB1-E376-4856-9A68-FC52078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ADD7F-724A-4D6B-82E8-02807525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37611-02ED-4251-BE68-48E1993E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F569A-6686-46E7-BE01-0EF2E0FA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9553E-DED2-46A6-A1DA-FF5F5542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10D8B-B7C9-446E-9C2F-18C8C772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6E249-7B9F-4A95-A65D-CDE1944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216-8AAA-42C6-A5ED-26BCD1C1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20EAA-0F06-4081-875A-5013563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3C96A-F5DB-4120-A60A-0D04763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EC3C4-F579-4764-9D49-CE5A4A77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890B7-C86A-439B-9A7C-24DA7708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C0C32-11D2-480B-A1BC-3BE63193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46AFF-026A-439C-8039-90A90044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82041-C04E-4DD6-8993-71BAB88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7D66D-FA58-489B-AA30-CD60A8B2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4A6FF-DCA1-49B9-9618-CC445296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28069-0BEB-468A-9330-FEC9EFBE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A85-DE6B-4428-BC1C-8D64B873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37E98-F293-4F9F-B1D5-9DB95DD5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83EF0-DA6E-47E0-94ED-4914D81F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45292-3AEB-4E9A-9613-67300FFE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9B18B-B088-4CDD-90D9-5D592CC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160530-83A5-44BC-B045-2ACB34CB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1FC90-C6E7-41D2-8F97-8CA9D3F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12F91-7274-46AB-98BB-C65DFFE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BCD99-2E03-4336-A5A0-D709286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30BD1-DCC7-4CF4-A608-DC073DC9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29D22-44E3-4B18-B6E5-6940BAAF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46A-9562-44B3-82A3-049E5879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F5641-5774-450B-B9D9-09FE06C2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C3B34-5F35-413E-8867-1154A3E8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CCB2C-A376-42AF-BFC4-301302BC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7A368-D21A-4392-A34A-31F1A6E4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06DCE-3AB3-43EB-A344-0E3A56C7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A501F-8EF6-4A39-9B78-ECDFFAD6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2CE37-DA29-4732-8410-7D815A73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01242-5B41-4AC8-8F6D-50E6FFB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B6921-E8CF-4214-A1C6-BA042CF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EEF9E-BFB7-444D-B4C0-BF940BA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C1E3-BC90-4B56-907B-AA7169D4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D3CD8-4DA3-4E15-8026-859A79FA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EA435-85A4-49FE-B040-6248A295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35D84-69CA-404C-ABF3-D9774E88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4E83B-0E0D-467C-88F3-20192EA3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1611E-CC79-461F-B40A-E617B6C9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E0B9A-DD34-4F9F-BEF2-E7743282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1ADD3-D129-4E83-9F81-08FD17DF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7681B-D9A4-4215-8715-35E93F9A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70716-B38E-4623-BC59-4C1D00E0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AA55A-5A68-4FB6-961E-73B0034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D130-DDD1-4131-BFAA-EFCB4C29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0879F-6157-473C-A966-87A2AB7F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709F3-3F96-4275-B247-7B29FF5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3E3AC-5E7D-4EE3-937C-6FDAEE0E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7E70D7-C9E8-4E55-952D-95E59FF2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A71B3-DCCC-4EFC-8B98-5BD71B8B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69998-3BA8-4EC0-9E28-56ACDB92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72560-9EBD-4D56-A026-66FC9F00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63BD4-1999-4AE6-98BD-4109723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44D9CA-ADFE-444D-8717-BCA8833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BFE2E-3B4A-46BB-A859-F475C415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9575-1A30-4924-8115-D2F2CABC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F27AF1-2277-4163-AC53-B766347C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91EF32-E2C8-4CA5-A25E-E2B132E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A1B36-3638-47C9-AAD3-973D2129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692FF-0720-4593-8AFA-768F5F1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F7E52-9C80-4039-8FC0-973A5AF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FE33F-94A9-4AB5-AAFE-B78664D5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537A0-F103-49AA-978F-C5E642E2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F7D5B-56FA-4C59-8483-F397A22E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B0D576-DE19-461F-877A-B5DB9504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959E9-B271-4AD3-ABE3-83A23CB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901B-F3ED-4704-91DE-B6FD0AFD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158025-1293-4247-B329-CD119D0C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6DBDB7-3E7F-4B36-AD1A-7274849A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EEBEFA-AF0D-4AE2-9E82-84567A6D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A70AD9-B827-4957-9CF9-55DD1DBF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C74F03-F84C-404F-AE8E-CBBFCED9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26A46-30A2-46E6-91BF-32370CE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41788-5D6A-438A-944D-E41C1B36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CFC9F-E9DF-4C52-9E0F-4B89185F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ED35D5-28FF-422A-B871-11187B91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08FEE2-E5FD-4454-A2B5-F609034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319-0C29-48A3-9A22-2819D7CF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044176-831F-41C5-9458-49DCA2E9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06A9C7-B006-4646-BC7E-AAF6BFB9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2A6628-6A30-4475-A369-06BEC9E0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3D8ECD-429A-4710-BAF4-E3C7E58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AD1D52-7DEB-4708-BE01-F7F1684C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2CFC47-BCCD-4072-BAE3-DF09F6C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67D587-D182-45CB-A728-25F1B73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72C1F6-DE06-401B-B6C2-3971A0C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1232A7-701E-4993-92F5-91517F94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0F02E8-6788-48F5-A71B-8DCE97E3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FBAA-9906-4316-B7C1-7073542A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842FD6-ED77-436A-9606-1EFC3014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A6D6B8-2F30-42A4-A27A-D7E58EB5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465A8-A4B2-4076-A52F-E3400589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391B6D-F427-40CF-9533-18D48CA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A783EC-1802-42D7-9F0B-E5F9CCF0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4811FB-F42E-481B-9FA1-79DE39D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C7C302-CE35-4F49-9653-D4CBB2EC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712FFE-1AF6-4D8F-BED6-974F228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74E329-DBD8-49B6-9892-7FE114E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7D2725-4D14-44D5-9B77-0C9F6E0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593D-2DF6-4607-8AD8-971B483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92ED95-6EDF-4D75-9369-061177E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6914AB-7653-4478-83D7-A884CA5E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B746FC-A06F-45FE-B309-29E9FC36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264296-F98E-487F-8CCD-C8A8C46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DCC5EC-2FC0-4C81-A4C5-6DF9FCF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0BB37A-6ABD-4B4B-ABA7-1780FF7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FD233A-522E-4378-8522-374BBCB7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849600-FAF7-4FF7-9D8C-F2A7A075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0DC1D0-7B7C-4030-B7D9-62175241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FE2FC3-9313-47B5-A04D-2BAC69A4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1B94-D17A-4A18-BC29-182C0A6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3B3CD7-D011-4BD6-A403-2EFEDE38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C6700F-398B-412B-83FC-7C4ECE58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0624FB-602F-4BD6-86E9-618B76F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6F1DE8-1F20-42AC-BDB9-B428CD26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06DC7B-06BA-42E7-9032-6B8ABCCD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E65AB8-4726-45D5-B339-069305ED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606E26-0B3E-4C5B-9DA8-01D0E109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91AC87-0283-415B-B1D5-0B8D3E68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49763C-C979-4014-A6CC-D530E39B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0B5493-31AE-4EDE-8738-3A3335E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6B22-837D-4CE5-BF6E-83BE056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98292C-6252-49D8-9B93-E0BF7DEF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8B291F-8C3E-4790-ABE0-60C469E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2A63C4-C0B8-4881-8445-0023DBA9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F07E5-E5B9-4DAE-889E-368F296F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9D4D42-5A97-4E4D-9064-F9FAE2A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A1FFE8-E421-48D2-BD86-AA53B667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E9D9E5-D9FB-498F-B0A9-5C084247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FCAB-66F8-4E4E-8836-6F6E757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0CA4-538A-4829-935E-9DEDFBA9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4AE-E756-44ED-95CB-3EFFEDE4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7B39-B10F-4611-BC19-2153E2DD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7079-EB8A-425D-AFCB-3E28D80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12B2-0B79-4D14-881A-6DCEC625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26E0-A11C-4691-8CD4-13ABA303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A736-BBE9-4FE7-8744-A7D72796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2916-72B8-4A58-9E97-69776763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2A32-17E8-47A0-A4CA-07AAFF4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DF1F-D573-4972-B6B6-477EDBFB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53D7-0A8A-4AF7-966C-D4539CA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E320-E0B1-4C4B-A198-33184258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1B9A-AA25-4F52-BCCF-346631D4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2D19-F70B-4805-8737-947AFED7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C561-B656-41A9-9ACE-47F04A52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5068-0FB9-4223-A508-7853A4FF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8451F-7DC0-41B6-9B42-42735BDC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48DA-282F-45B3-998A-82A3CAE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C03E-6910-42D4-B365-9E08F35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177FB-FC0F-414F-814A-51EB9DC6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8C29-6C4D-46FE-8927-FA825710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25CD-526F-4476-9FDE-8F585AF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9D48-153B-4821-959E-7088A30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CEF9-D932-4C16-A096-FD6C16F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6959-6A89-44E0-AEFA-FA5CE583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1054A-C4A7-4D64-9204-2C693E7D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4138D-83E3-4BDA-8AD3-86A77CAE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21A5-A230-4B82-A675-B90FF45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0DA1-97E0-471D-BB71-6ABF00A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F5FF-9728-4758-A955-8C5D82F9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1FE7A-405A-4851-B00A-681CF73C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F1FAD-B212-4BBC-9FBE-7786F400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28FA-2D86-464D-BE86-68DDF5F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A730B-A3F1-42FE-A59A-32C1C666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BA1C3-E2A5-47B7-A867-957D422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E885-5113-4902-ADD6-6A20889A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5ED6-9EE1-45EE-B268-736E2D6D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FC0A-F7A3-4160-BFE2-B9C16774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434E3-4D9E-4C54-A1E5-8520A655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6CB29-4227-437A-940E-ABEF7E3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FB3DC-3A62-4B69-A111-01108D61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41DF5-E57C-4273-8869-E7D5E1C5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6430-5077-4889-B469-83DB5A11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3F54-6DC6-41AD-93FA-65FC1C3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6255-7C5D-4104-A595-7A75D02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864EE-867B-46BF-8F00-86CDDB2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8149F-62B1-44D9-9929-A1EF91AE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C5B5-0128-423C-9795-56CA339A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7B24-23E1-43E0-93CD-705EC777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9715D-5A38-4D70-BAE3-95583C3B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F9AB-5036-4C04-922C-C298EF68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F6429-2657-4784-A1CC-CB843D6C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E5C92-3728-457F-8C35-A793C0F9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9054-060B-407B-8BCA-2D48D2DF1CF5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9DF5-D167-4D4E-9540-3710D168EAA8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C042-1238-4D00-BFE0-BC259BAC6983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0C0B-7993-425E-8253-DCD645C5835E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1A9A-CB40-4031-B539-27E240462813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25A4-B9A3-4F7C-BCA3-6BFCAD92BEE5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66EF-8FF8-4448-84B9-ACD249F3763C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5633-F443-4386-B5FA-77089E3BD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9720-DA6D-4224-ACD7-F5D0B3468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C2FD-A42C-44BE-9C0C-BFC1DADFB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DA4A-0EDF-42B3-80A8-5581E2C94665}" type="slidenum">
              <a: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6AF7-B417-45F9-B4D7-0CB79C47F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AFE2-4466-4CFF-823A-E5DBA9237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015A-9CE2-4532-9E6A-FB055CF5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7546-D19E-4819-A104-4856DDE70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51C6-E00A-40DD-8B50-6920EBF16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B80-7FC0-4B26-A018-FAE9E188E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D22B-0358-49F3-BE24-4CE5940D3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9DA-2E9A-4750-9806-FED1A5C52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D29-A3D3-4D37-A120-A788925A7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047D-B263-423B-986F-3A93B1C4A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al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71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978E-8AC2-42B5-9C16-63543B528037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0987-8E18-4435-84AC-1601E07FF80A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DA9-E7C6-4834-A12D-0142CFA18667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D494-BCB0-471A-AAAE-37EBE38FDF86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1153-764E-4D07-B8BB-BE3805EE76B5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edator-Prey Model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  <a:ea typeface="DejaVu Sans"/>
              </a:rPr>
              <a:t>Generic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78" name="Picture 4" descr=""/>
          <p:cNvPicPr/>
          <p:nvPr/>
        </p:nvPicPr>
        <p:blipFill>
          <a:blip r:embed="rId1"/>
          <a:srcRect l="1633" t="0" r="1633" b="0"/>
          <a:stretch/>
        </p:blipFill>
        <p:spPr>
          <a:xfrm>
            <a:off x="1116000" y="1413000"/>
            <a:ext cx="5904000" cy="220032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3"/>
          <p:cNvSpPr/>
          <p:nvPr/>
        </p:nvSpPr>
        <p:spPr>
          <a:xfrm>
            <a:off x="1109520" y="4149720"/>
            <a:ext cx="690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f(x) prey growth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g(y) predator mortalit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h(x,y) predation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e -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Lotka-Volterra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81" name="Picture 5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113440" cy="239076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4"/>
          <p:cNvSpPr/>
          <p:nvPr/>
        </p:nvSpPr>
        <p:spPr>
          <a:xfrm>
            <a:off x="1514160" y="4581360"/>
            <a:ext cx="656460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   - prey growth rate : Malthu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  - predator mortality rate : natural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 and b predation coefficients : b=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e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2" descr="figure 18-10 #19010.jpg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838080" y="933480"/>
            <a:ext cx="7772400" cy="592452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Predator-prey population fluctuations in Lotka-Volterra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month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40 wolf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plan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572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 of one species in relation to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Picture 11" descr="090602"/>
          <p:cNvPicPr/>
          <p:nvPr/>
        </p:nvPicPr>
        <p:blipFill>
          <a:blip r:embed="rId1"/>
          <a:stretch/>
        </p:blipFill>
        <p:spPr>
          <a:xfrm>
            <a:off x="1187280" y="2060640"/>
            <a:ext cx="6193080" cy="45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trajectories: solution curv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71680" y="1268280"/>
            <a:ext cx="85723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ase trajectory is a path traced out  by solution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ime goes 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Picture 10" descr="090602"/>
          <p:cNvPicPr/>
          <p:nvPr/>
        </p:nvPicPr>
        <p:blipFill>
          <a:blip r:embed="rId1"/>
          <a:stretch/>
        </p:blipFill>
        <p:spPr>
          <a:xfrm>
            <a:off x="1547640" y="2565360"/>
            <a:ext cx="5545440" cy="40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quilibrium poi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394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int (1000, 80) is inside all the solution curves.  It corresponds to the  equilibrium solution 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00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80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13" descr="090602"/>
          <p:cNvPicPr/>
          <p:nvPr/>
        </p:nvPicPr>
        <p:blipFill>
          <a:blip r:embed="rId1"/>
          <a:stretch/>
        </p:blipFill>
        <p:spPr>
          <a:xfrm>
            <a:off x="1692360" y="2565360"/>
            <a:ext cx="5400720" cy="39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7" name="Picture 2" descr=""/>
          <p:cNvPicPr/>
          <p:nvPr/>
        </p:nvPicPr>
        <p:blipFill>
          <a:blip r:embed="rId1"/>
          <a:stretch/>
        </p:blipFill>
        <p:spPr>
          <a:xfrm>
            <a:off x="647640" y="1219320"/>
            <a:ext cx="78361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31852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cknowledgments and than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hanks to the following professors for making slides available on the internet that were reused by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dessamad Tridane (AS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een Ledder (Univ of Nebras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ger Day (Illinois State Univers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2" descr="figure 17-03.jpg                                               0000A6A3Discovering 2.0 IRCD           B562F59D:"/>
          <p:cNvPicPr/>
          <p:nvPr/>
        </p:nvPicPr>
        <p:blipFill>
          <a:blip r:embed="rId1"/>
          <a:stretch/>
        </p:blipFill>
        <p:spPr>
          <a:xfrm>
            <a:off x="584280" y="1484280"/>
            <a:ext cx="8535960" cy="4707000"/>
          </a:xfrm>
          <a:prstGeom prst="rect">
            <a:avLst/>
          </a:prstGeom>
          <a:ln w="0">
            <a:noFill/>
          </a:ln>
        </p:spPr>
      </p:pic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nature red in tooth and claw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4" descr="http://www-rohan.sdsu.edu/~jmahaffy/courses/f00/math122/lectures/qual_de2/images/mr285.jpg"/>
          <p:cNvPicPr/>
          <p:nvPr/>
        </p:nvPicPr>
        <p:blipFill>
          <a:blip r:embed="rId1"/>
          <a:stretch/>
        </p:blipFill>
        <p:spPr>
          <a:xfrm>
            <a:off x="826920" y="476280"/>
            <a:ext cx="7078680" cy="471960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4"/>
          <p:cNvSpPr/>
          <p:nvPr/>
        </p:nvSpPr>
        <p:spPr>
          <a:xfrm>
            <a:off x="826920" y="5373720"/>
            <a:ext cx="7778880" cy="94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species uses another as a food resource: lynx and har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Picture 2" descr="figure 18-01b.jpg     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56386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The Hudson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s Bay Company 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" descr="figure 18-02 #1902.jpg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971640" y="1449360"/>
            <a:ext cx="7345440" cy="5432400"/>
          </a:xfrm>
          <a:prstGeom prst="rect">
            <a:avLst/>
          </a:prstGeom>
          <a:ln w="0">
            <a:noFill/>
          </a:ln>
        </p:spPr>
      </p:pic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hare and lynx populations (Canada)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826920" y="10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e regular periodicity, and lag by lynx population peaks just after hare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486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incipal cause of death among the pre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being eaten by a pred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rth and survival rates of the predators depe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ir available food supply—namely, the pr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6" name="Picture 1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3673440" cy="27540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2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129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38836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</a:rPr>
              <a:t>Two species encounter each other at a rate that is proportional to both population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Picture 1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6466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3"/>
          <p:cNvSpPr/>
          <p:nvPr/>
        </p:nvSpPr>
        <p:spPr>
          <a:xfrm>
            <a:off x="2818800" y="153180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Calibri"/>
              </a:rPr>
              <a:t>normal pre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4"/>
          <p:cNvGrpSpPr/>
          <p:nvPr/>
        </p:nvGrpSpPr>
        <p:grpSpPr>
          <a:xfrm>
            <a:off x="564120" y="1892160"/>
            <a:ext cx="3107880" cy="1341720"/>
            <a:chOff x="564120" y="1892160"/>
            <a:chExt cx="3107880" cy="1341720"/>
          </a:xfrm>
        </p:grpSpPr>
        <p:sp>
          <p:nvSpPr>
            <p:cNvPr id="1233" name="AutoShape 5"/>
            <p:cNvSpPr/>
            <p:nvPr/>
          </p:nvSpPr>
          <p:spPr>
            <a:xfrm>
              <a:off x="2300400" y="2090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"/>
            <p:cNvSpPr/>
            <p:nvPr/>
          </p:nvSpPr>
          <p:spPr>
            <a:xfrm>
              <a:off x="564120" y="1892160"/>
              <a:ext cx="187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prey pop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4967280" y="1895400"/>
            <a:ext cx="3537000" cy="2982600"/>
            <a:chOff x="4967280" y="1895400"/>
            <a:chExt cx="3537000" cy="2982600"/>
          </a:xfrm>
        </p:grpSpPr>
        <p:grpSp>
          <p:nvGrpSpPr>
            <p:cNvPr id="1236" name="Group 8"/>
            <p:cNvGrpSpPr/>
            <p:nvPr/>
          </p:nvGrpSpPr>
          <p:grpSpPr>
            <a:xfrm>
              <a:off x="4967280" y="2857680"/>
              <a:ext cx="1371600" cy="1368000"/>
              <a:chOff x="4967280" y="2857680"/>
              <a:chExt cx="1371600" cy="1368000"/>
            </a:xfrm>
          </p:grpSpPr>
          <p:pic>
            <p:nvPicPr>
              <p:cNvPr id="1237" name="Picture 9" descr="hare_OUTLINE"/>
              <p:cNvPicPr/>
              <p:nvPr/>
            </p:nvPicPr>
            <p:blipFill>
              <a:blip r:embed="rId1"/>
              <a:srcRect l="0" t="16798" r="0" b="16798"/>
              <a:stretch/>
            </p:blipFill>
            <p:spPr>
              <a:xfrm>
                <a:off x="4968000" y="285768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Picture 10" descr="hare"/>
              <p:cNvPicPr/>
              <p:nvPr/>
            </p:nvPicPr>
            <p:blipFill>
              <a:blip r:embed="rId2"/>
              <a:srcRect l="0" t="16798" r="0" b="16798"/>
              <a:stretch/>
            </p:blipFill>
            <p:spPr>
              <a:xfrm>
                <a:off x="4967280" y="286056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9" name="Group 11"/>
            <p:cNvGrpSpPr/>
            <p:nvPr/>
          </p:nvGrpSpPr>
          <p:grpSpPr>
            <a:xfrm>
              <a:off x="6116760" y="2859120"/>
              <a:ext cx="1371600" cy="1368000"/>
              <a:chOff x="6116760" y="2859120"/>
              <a:chExt cx="1371600" cy="1368000"/>
            </a:xfrm>
          </p:grpSpPr>
          <p:pic>
            <p:nvPicPr>
              <p:cNvPr id="1240" name="Picture 12" descr="hare_OUTLINE"/>
              <p:cNvPicPr/>
              <p:nvPr/>
            </p:nvPicPr>
            <p:blipFill>
              <a:blip r:embed="rId3"/>
              <a:srcRect l="0" t="16798" r="0" b="16798"/>
              <a:stretch/>
            </p:blipFill>
            <p:spPr>
              <a:xfrm>
                <a:off x="6117480" y="28591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13" descr="hare"/>
              <p:cNvPicPr/>
              <p:nvPr/>
            </p:nvPicPr>
            <p:blipFill>
              <a:blip r:embed="rId4"/>
              <a:srcRect l="0" t="16798" r="0" b="16798"/>
              <a:stretch/>
            </p:blipFill>
            <p:spPr>
              <a:xfrm>
                <a:off x="6116760" y="28620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14"/>
            <p:cNvGrpSpPr/>
            <p:nvPr/>
          </p:nvGrpSpPr>
          <p:grpSpPr>
            <a:xfrm>
              <a:off x="4969080" y="3510000"/>
              <a:ext cx="1371600" cy="1368000"/>
              <a:chOff x="4969080" y="3510000"/>
              <a:chExt cx="1371600" cy="1368000"/>
            </a:xfrm>
          </p:grpSpPr>
          <p:pic>
            <p:nvPicPr>
              <p:cNvPr id="1243" name="Picture 15" descr="hare_OUTLINE"/>
              <p:cNvPicPr/>
              <p:nvPr/>
            </p:nvPicPr>
            <p:blipFill>
              <a:blip r:embed="rId5"/>
              <a:srcRect l="0" t="16798" r="0" b="16798"/>
              <a:stretch/>
            </p:blipFill>
            <p:spPr>
              <a:xfrm>
                <a:off x="4969800" y="35100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Picture 16" descr="hare"/>
              <p:cNvPicPr/>
              <p:nvPr/>
            </p:nvPicPr>
            <p:blipFill>
              <a:blip r:embed="rId6"/>
              <a:srcRect l="0" t="16798" r="0" b="16798"/>
              <a:stretch/>
            </p:blipFill>
            <p:spPr>
              <a:xfrm>
                <a:off x="4969080" y="35128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5" name="Group 17"/>
            <p:cNvGrpSpPr/>
            <p:nvPr/>
          </p:nvGrpSpPr>
          <p:grpSpPr>
            <a:xfrm>
              <a:off x="6116760" y="3505320"/>
              <a:ext cx="1371600" cy="1368000"/>
              <a:chOff x="6116760" y="3505320"/>
              <a:chExt cx="1371600" cy="1368000"/>
            </a:xfrm>
          </p:grpSpPr>
          <p:pic>
            <p:nvPicPr>
              <p:cNvPr id="1246" name="Picture 18" descr="hare_OUTLINE"/>
              <p:cNvPicPr/>
              <p:nvPr/>
            </p:nvPicPr>
            <p:blipFill>
              <a:blip r:embed="rId7"/>
              <a:srcRect l="0" t="16798" r="0" b="16798"/>
              <a:stretch/>
            </p:blipFill>
            <p:spPr>
              <a:xfrm>
                <a:off x="6117480" y="35053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Picture 19" descr="hare"/>
              <p:cNvPicPr/>
              <p:nvPr/>
            </p:nvPicPr>
            <p:blipFill>
              <a:blip r:embed="rId8"/>
              <a:srcRect l="0" t="16798" r="0" b="16798"/>
              <a:stretch/>
            </p:blipFill>
            <p:spPr>
              <a:xfrm>
                <a:off x="6116760" y="35082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8" name="AutoShape 20"/>
            <p:cNvSpPr/>
            <p:nvPr/>
          </p:nvSpPr>
          <p:spPr>
            <a:xfrm rot="5400000">
              <a:off x="5400360" y="2217600"/>
              <a:ext cx="1143000" cy="11430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1"/>
            <p:cNvSpPr/>
            <p:nvPr/>
          </p:nvSpPr>
          <p:spPr>
            <a:xfrm>
              <a:off x="6572520" y="1895400"/>
              <a:ext cx="19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prey popul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22"/>
          <p:cNvGrpSpPr/>
          <p:nvPr/>
        </p:nvGrpSpPr>
        <p:grpSpPr>
          <a:xfrm>
            <a:off x="6408720" y="2733840"/>
            <a:ext cx="2895480" cy="2866320"/>
            <a:chOff x="6408720" y="2733840"/>
            <a:chExt cx="2895480" cy="2866320"/>
          </a:xfrm>
        </p:grpSpPr>
        <p:sp>
          <p:nvSpPr>
            <p:cNvPr id="1251" name="Rectangle 23"/>
            <p:cNvSpPr/>
            <p:nvPr/>
          </p:nvSpPr>
          <p:spPr>
            <a:xfrm>
              <a:off x="6408720" y="468324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predator population increas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as more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Group 24"/>
            <p:cNvGrpSpPr/>
            <p:nvPr/>
          </p:nvGrpSpPr>
          <p:grpSpPr>
            <a:xfrm>
              <a:off x="6911640" y="2733840"/>
              <a:ext cx="1539360" cy="1982520"/>
              <a:chOff x="6911640" y="2733840"/>
              <a:chExt cx="1539360" cy="1982520"/>
            </a:xfrm>
          </p:grpSpPr>
          <p:pic>
            <p:nvPicPr>
              <p:cNvPr id="1253" name="Picture 25" descr="hare_OUTLINE"/>
              <p:cNvPicPr/>
              <p:nvPr/>
            </p:nvPicPr>
            <p:blipFill>
              <a:blip r:embed="rId9"/>
              <a:srcRect l="12598" t="16798" r="12598" b="16798"/>
              <a:stretch/>
            </p:blipFill>
            <p:spPr>
              <a:xfrm flipH="1">
                <a:off x="6911640" y="273384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Picture 26" descr="cat"/>
              <p:cNvPicPr/>
              <p:nvPr/>
            </p:nvPicPr>
            <p:blipFill>
              <a:blip r:embed="rId10"/>
              <a:srcRect l="12598" t="16798" r="12598" b="16798"/>
              <a:stretch/>
            </p:blipFill>
            <p:spPr>
              <a:xfrm flipH="1">
                <a:off x="7014960" y="280296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Group 27"/>
            <p:cNvGrpSpPr/>
            <p:nvPr/>
          </p:nvGrpSpPr>
          <p:grpSpPr>
            <a:xfrm>
              <a:off x="7748640" y="2746440"/>
              <a:ext cx="1539000" cy="1982880"/>
              <a:chOff x="7748640" y="2746440"/>
              <a:chExt cx="1539000" cy="1982880"/>
            </a:xfrm>
          </p:grpSpPr>
          <p:pic>
            <p:nvPicPr>
              <p:cNvPr id="1256" name="Picture 28" descr="hare_OUTLINE"/>
              <p:cNvPicPr/>
              <p:nvPr/>
            </p:nvPicPr>
            <p:blipFill>
              <a:blip r:embed="rId11"/>
              <a:srcRect l="12598" t="16798" r="12598" b="16798"/>
              <a:stretch/>
            </p:blipFill>
            <p:spPr>
              <a:xfrm flipH="1">
                <a:off x="7748640" y="2746440"/>
                <a:ext cx="1434960" cy="19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Picture 29" descr="cat"/>
              <p:cNvPicPr/>
              <p:nvPr/>
            </p:nvPicPr>
            <p:blipFill>
              <a:blip r:embed="rId12"/>
              <a:srcRect l="12598" t="16798" r="12598" b="16798"/>
              <a:stretch/>
            </p:blipFill>
            <p:spPr>
              <a:xfrm flipH="1">
                <a:off x="7851960" y="2815560"/>
                <a:ext cx="1435680" cy="1913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58" name="Group 30"/>
          <p:cNvGrpSpPr/>
          <p:nvPr/>
        </p:nvGrpSpPr>
        <p:grpSpPr>
          <a:xfrm>
            <a:off x="539640" y="2730600"/>
            <a:ext cx="2845080" cy="3118320"/>
            <a:chOff x="539640" y="2730600"/>
            <a:chExt cx="2845080" cy="3118320"/>
          </a:xfrm>
        </p:grpSpPr>
        <p:sp>
          <p:nvSpPr>
            <p:cNvPr id="1259" name="AutoShape 31"/>
            <p:cNvSpPr/>
            <p:nvPr/>
          </p:nvSpPr>
          <p:spPr>
            <a:xfrm rot="16200000">
              <a:off x="2127240" y="455904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2"/>
            <p:cNvSpPr/>
            <p:nvPr/>
          </p:nvSpPr>
          <p:spPr>
            <a:xfrm>
              <a:off x="539640" y="4657680"/>
              <a:ext cx="205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predator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as less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1" name="Group 33"/>
            <p:cNvGrpSpPr/>
            <p:nvPr/>
          </p:nvGrpSpPr>
          <p:grpSpPr>
            <a:xfrm>
              <a:off x="1079640" y="2730600"/>
              <a:ext cx="1539360" cy="1982520"/>
              <a:chOff x="1079640" y="2730600"/>
              <a:chExt cx="1539360" cy="1982520"/>
            </a:xfrm>
          </p:grpSpPr>
          <p:pic>
            <p:nvPicPr>
              <p:cNvPr id="1262" name="Picture 34" descr="hare_OUTLINE"/>
              <p:cNvPicPr/>
              <p:nvPr/>
            </p:nvPicPr>
            <p:blipFill>
              <a:blip r:embed="rId13"/>
              <a:srcRect l="12598" t="16798" r="12598" b="16798"/>
              <a:stretch/>
            </p:blipFill>
            <p:spPr>
              <a:xfrm flipH="1">
                <a:off x="1079640" y="273060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Picture 35" descr="cat"/>
              <p:cNvPicPr/>
              <p:nvPr/>
            </p:nvPicPr>
            <p:blipFill>
              <a:blip r:embed="rId14"/>
              <a:srcRect l="12598" t="16798" r="12598" b="16798"/>
              <a:stretch/>
            </p:blipFill>
            <p:spPr>
              <a:xfrm flipH="1">
                <a:off x="1182960" y="279972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4" name="Group 37"/>
          <p:cNvGrpSpPr/>
          <p:nvPr/>
        </p:nvGrpSpPr>
        <p:grpSpPr>
          <a:xfrm>
            <a:off x="3740040" y="1506600"/>
            <a:ext cx="1371600" cy="1368000"/>
            <a:chOff x="3740040" y="1506600"/>
            <a:chExt cx="1371600" cy="1368000"/>
          </a:xfrm>
        </p:grpSpPr>
        <p:pic>
          <p:nvPicPr>
            <p:cNvPr id="1265" name="Picture 38" descr="hare_OUTLINE"/>
            <p:cNvPicPr/>
            <p:nvPr/>
          </p:nvPicPr>
          <p:blipFill>
            <a:blip r:embed="rId15"/>
            <a:srcRect l="0" t="16798" r="0" b="16798"/>
            <a:stretch/>
          </p:blipFill>
          <p:spPr>
            <a:xfrm>
              <a:off x="3740760" y="1506600"/>
              <a:ext cx="137088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39" descr="hare"/>
            <p:cNvPicPr/>
            <p:nvPr/>
          </p:nvPicPr>
          <p:blipFill>
            <a:blip r:embed="rId16"/>
            <a:srcRect l="0" t="16798" r="0" b="16798"/>
            <a:stretch/>
          </p:blipFill>
          <p:spPr>
            <a:xfrm>
              <a:off x="3740040" y="1509480"/>
              <a:ext cx="137088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Group 40"/>
          <p:cNvGrpSpPr/>
          <p:nvPr/>
        </p:nvGrpSpPr>
        <p:grpSpPr>
          <a:xfrm>
            <a:off x="3672000" y="2155680"/>
            <a:ext cx="1371600" cy="1368360"/>
            <a:chOff x="3672000" y="2155680"/>
            <a:chExt cx="1371600" cy="1368360"/>
          </a:xfrm>
        </p:grpSpPr>
        <p:pic>
          <p:nvPicPr>
            <p:cNvPr id="1268" name="Picture 41" descr="hare_OUTLINE"/>
            <p:cNvPicPr/>
            <p:nvPr/>
          </p:nvPicPr>
          <p:blipFill>
            <a:blip r:embed="rId17"/>
            <a:srcRect l="0" t="16798" r="0" b="16798"/>
            <a:stretch/>
          </p:blipFill>
          <p:spPr>
            <a:xfrm>
              <a:off x="3672720" y="2155680"/>
              <a:ext cx="1370880" cy="136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42" descr="hare"/>
            <p:cNvPicPr/>
            <p:nvPr/>
          </p:nvPicPr>
          <p:blipFill>
            <a:blip r:embed="rId18"/>
            <a:srcRect l="0" t="16798" r="0" b="16798"/>
            <a:stretch/>
          </p:blipFill>
          <p:spPr>
            <a:xfrm>
              <a:off x="3672000" y="2158560"/>
              <a:ext cx="1370880" cy="13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43"/>
          <p:cNvGrpSpPr/>
          <p:nvPr/>
        </p:nvGrpSpPr>
        <p:grpSpPr>
          <a:xfrm>
            <a:off x="2539080" y="4682880"/>
            <a:ext cx="3999960" cy="1846440"/>
            <a:chOff x="2539080" y="4682880"/>
            <a:chExt cx="3999960" cy="1846440"/>
          </a:xfrm>
        </p:grpSpPr>
        <p:sp>
          <p:nvSpPr>
            <p:cNvPr id="1271" name="AutoShape 44"/>
            <p:cNvSpPr/>
            <p:nvPr/>
          </p:nvSpPr>
          <p:spPr>
            <a:xfrm rot="10800000">
              <a:off x="5167440" y="4682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45"/>
            <p:cNvSpPr/>
            <p:nvPr/>
          </p:nvSpPr>
          <p:spPr>
            <a:xfrm>
              <a:off x="2539080" y="5856120"/>
              <a:ext cx="3033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prey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because of more pred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Group 46"/>
            <p:cNvGrpSpPr/>
            <p:nvPr/>
          </p:nvGrpSpPr>
          <p:grpSpPr>
            <a:xfrm>
              <a:off x="3743280" y="4746600"/>
              <a:ext cx="1371600" cy="1368000"/>
              <a:chOff x="3743280" y="4746600"/>
              <a:chExt cx="1371600" cy="1368000"/>
            </a:xfrm>
          </p:grpSpPr>
          <p:pic>
            <p:nvPicPr>
              <p:cNvPr id="1274" name="Picture 47" descr="hare_OUTLINE"/>
              <p:cNvPicPr/>
              <p:nvPr/>
            </p:nvPicPr>
            <p:blipFill>
              <a:blip r:embed="rId19"/>
              <a:srcRect l="0" t="16798" r="0" b="16798"/>
              <a:stretch/>
            </p:blipFill>
            <p:spPr>
              <a:xfrm>
                <a:off x="3744000" y="47466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Picture 48" descr="hare"/>
              <p:cNvPicPr/>
              <p:nvPr/>
            </p:nvPicPr>
            <p:blipFill>
              <a:blip r:embed="rId20"/>
              <a:srcRect l="0" t="16798" r="0" b="16798"/>
              <a:stretch/>
            </p:blipFill>
            <p:spPr>
              <a:xfrm>
                <a:off x="3743280" y="47494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cyc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tiago</cp:lastModifiedBy>
  <cp:lastPrinted>2012-10-26T17:22:49Z</cp:lastPrinted>
  <dcterms:modified xsi:type="dcterms:W3CDTF">2014-07-31T19:22:16Z</dcterms:modified>
  <cp:revision>470</cp:revision>
  <dc:subject/>
  <dc:title>Low-carbon growth in Brazil?</dc:title>
</cp:coreProperties>
</file>